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943-30BA-4A17-A2B6-DC28D58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EB1-6716-4846-B834-F169D689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D69-54BF-4FA3-B6A4-C3D3A68F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26F-F5E2-43C9-84E7-E0CBBEFB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A96-DC07-4067-B3AC-5415389F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31A-9DF3-4C07-85F1-56CB1953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F53-5B21-4B33-B3A3-5CF21524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FAC-389D-4DDE-91F3-AE2E3F1A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75F-8D81-4005-8FA3-98497B6F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9C7-8604-4D50-A786-A42E7F53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22A-1679-4EF6-AE3F-7E93993C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DEC-523D-4A1E-8D57-A71215A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DED07-880C-4A7B-9BC2-27FC35DBED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4E883-1D23-4912-9C01-74D273173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ave 3"/>
          <p:cNvSpPr/>
          <p:nvPr/>
        </p:nvSpPr>
        <p:spPr>
          <a:xfrm rot="20946000">
            <a:off x="105840" y="240840"/>
            <a:ext cx="2689560" cy="1382760"/>
          </a:xfrm>
          <a:custGeom>
            <a:avLst/>
            <a:gdLst>
              <a:gd name="textAreaLeft" fmla="*/ 0 w 2689560"/>
              <a:gd name="textAreaRight" fmla="*/ 2689920 w 2689560"/>
              <a:gd name="textAreaTop" fmla="*/ 345600 h 1382760"/>
              <a:gd name="textAreaBottom" fmla="*/ 1037160 h 1382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Do N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27080" y="2090880"/>
            <a:ext cx="74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Does living in the United States make you happ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do you like? What would you chan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55680" y="430200"/>
            <a:ext cx="3865320" cy="1434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rker Felt"/>
                <a:ea typeface="Marker Felt"/>
              </a:rPr>
              <a:t>Key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96880" y="1941480"/>
            <a:ext cx="7620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are the different forms of government around the world and what are there key differenc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are some of the pros and cons of those forms of governm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85640" y="522360"/>
            <a:ext cx="3156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  <a:ea typeface="Marker Felt"/>
              </a:rPr>
              <a:t>Reading: Denmark “happiest country in the world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  <a:ea typeface="Marker Felt"/>
              </a:rPr>
              <a:t>Brainstorm: What are the characteristics of a happy countr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164120" y="81000"/>
            <a:ext cx="4779720" cy="6361200"/>
          </a:xfrm>
          <a:prstGeom prst="rect">
            <a:avLst/>
          </a:prstGeom>
          <a:ln w="0">
            <a:noFill/>
          </a:ln>
        </p:spPr>
      </p:pic>
      <p:cxnSp>
        <p:nvCxnSpPr>
          <p:cNvPr id="47" name="Straight Arrow Connector 4"/>
          <p:cNvCxnSpPr/>
          <p:nvPr/>
        </p:nvCxnSpPr>
        <p:spPr>
          <a:xfrm>
            <a:off x="3641760" y="784080"/>
            <a:ext cx="2542320" cy="1867680"/>
          </a:xfrm>
          <a:prstGeom prst="straightConnector1">
            <a:avLst/>
          </a:prstGeom>
          <a:ln w="604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72960" y="187200"/>
            <a:ext cx="83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Forms of Government Research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71640" y="108252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nce you have your form of governmen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Look in the textbook Government Alive pages 24-30 for a more detailed description of your form of gover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ead the sample country profile for your type of gover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Create a poster that explains the Main ideas of this form of government that you will use to teach the rest of the class abou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3:24:17Z</dcterms:created>
  <dc:creator>Teacher</dc:creator>
  <dc:description/>
  <dc:language>en-US</dc:language>
  <cp:lastModifiedBy>Teacher</cp:lastModifiedBy>
  <dcterms:modified xsi:type="dcterms:W3CDTF">2009-09-29T00:52:54Z</dcterms:modified>
  <cp:revision>1</cp:revision>
  <dc:subject/>
  <dc:title>Slide 1</dc:title>
</cp:coreProperties>
</file>